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DB9-2462-432D-83EB-8990C242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D4F-E148-4BBA-9AF8-0E39B286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55D-FA73-4101-A005-A0FD70BB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AD3-976C-4B27-A5FD-443DDB5C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65D0-C3F5-48EC-9A50-8B59783A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D401-711C-49CB-90CA-65265023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0C14-305F-42AF-9607-0761F44D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1317-DC29-4177-96BA-2649745E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F945-2A22-4517-9E2C-CE27802E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2D6C-68E1-462A-9271-39DCDB15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749E-8807-49E8-852F-DBE2A799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F67-12C9-4162-A20E-40B2731B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2F78-B5A7-4F42-898C-9FA67BFC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A5A3-694A-4F32-99F2-773E38F6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501B-3EEC-49C3-B615-888A73AB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48AC-DD5D-4579-BBF6-8B8721D6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47E6-7983-4FFE-B56E-37625202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BB1-5124-4ED1-ACE1-72B001EC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5F6-6B14-4FD9-B6A6-5A6F541F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D46-A6D4-4D57-B6C7-1ECFBECB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9AE-0C10-4B43-B38F-356996C6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E38-6DEE-4C5D-84EF-A0C35AC9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2FB-E212-4687-AD2D-CF58BA20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D5C-48CB-4DA7-8207-DBB2A95F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E824-7AC2-403C-BC70-4BA0EC005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65A7-3D22-451F-B43B-AEDB5C2C3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Rocks and Minerals - Direction Guid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lide 1 - Name of Rock/Mineral and its Properti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lide 2 - Where is this rock/mineral found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lide 3 - How is this rock/mineral used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LL SLIDES MUST INCLUDE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 picture or drawing related to your rock/miner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ppropriate slide layout for each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nsistent slide design for entire powerpoi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ccurate and complete inform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1440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he properties of Pumic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47720" y="2327400"/>
            <a:ext cx="32292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dc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n-metallic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of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es not have cleavag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reaks whi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gneous roc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loats on wate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4915080" y="2475000"/>
            <a:ext cx="38462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umice??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Where is it found?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umice deposits are found in areas with young volcanic field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US, pumice is produced in Arizona, California, New Mexico, and Oregon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5067360" y="2124000"/>
            <a:ext cx="384804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umic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How is it used?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o make light weight construction materials such as concre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brasiv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rticultur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ndscap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shing blue jea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067360" y="2133720"/>
            <a:ext cx="38480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7:49:30Z</dcterms:created>
  <dc:creator>Jill Adams</dc:creator>
  <dc:description/>
  <dc:language>en-US</dc:language>
  <cp:lastModifiedBy>Melissa E Hamm</cp:lastModifiedBy>
  <dcterms:modified xsi:type="dcterms:W3CDTF">2011-03-18T15:57:03Z</dcterms:modified>
  <cp:revision>6</cp:revision>
  <dc:subject/>
  <dc:title>Name of Rock/Mineral</dc:title>
</cp:coreProperties>
</file>